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D06-FDB5-47DD-826E-F267772D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062-BEB6-4A66-9F7A-197A34C7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9F3-FA17-4102-BA6A-59192196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32F-6E7F-412A-9F0F-68293CBD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B77-894F-44A8-AF76-C6B37B0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0E0-1155-4CAA-8893-84DBED71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D2D-BE73-41A7-887F-74CDCA35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05F-DE75-477F-9912-E8DECA18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634-3B2E-47C8-8DED-59B71147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1DE-0E00-450C-B65A-565632D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884-BA80-4049-8095-ACFF210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A70-6434-4598-9D58-900EFB19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A261-CDFF-4860-BF20-8632CB730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Η ΙΣΤΟΡΙΑ ΤΟΥ GRAFFIT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4 στοιχεια(χιπ-χοπ)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ρέικ ντανς(χορό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Dj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κράφιτ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6376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ΝΟΜΟΘΕΣΙΑ - ΝΟΜΙΜΟΤΗΤΑ - ''ΤΕΧΝΗ Ή ΒΑΝΔΑΛΙΣΜΟΣ;''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 graffiti μπορεί να είναι είτε νόμιμα είτε παράνομα. Η επιλογή βρίσκεται καθαρά στα χέρια του καλλιτέχνη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Το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ffiti</a:t>
            </a:r>
            <a:r>
              <a:rPr b="0" lang="el-GR" sz="4400" spc="-1" strike="noStrike" u="sng">
                <a:solidFill>
                  <a:srgbClr val="000000"/>
                </a:solidFill>
                <a:uFillTx/>
                <a:latin typeface="Arial"/>
              </a:rPr>
              <a:t> στην Ελλάδ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graffiti εμφανίστηκε στην Ελλάδα γύρω στο 1986 αρχικά με πολύχρωμα σχέδια και μηνύματα πάνω στα βαγόνια του ηλεκτρικού και των τρένων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07</cp:lastModifiedBy>
  <dcterms:modified xsi:type="dcterms:W3CDTF">2013-01-21T10:21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